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2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20.wmf" ContentType="image/x-wmf"/>
  <Override PartName="/ppt/media/image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dt" idx="83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 type="ftr" idx="84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 type="sldNum" idx="85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0F85-203B-4F67-94C7-BA7CF6DF5F33}" type="slidenum">
              <a:rPr b="0" lang="en-Z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16A9-C3D9-44FF-9ED6-40160D9865DE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C78F-133B-48EB-A7C8-B42025A8E86B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CD3A-43DB-481D-8883-CE31FBF902B3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27DE-6F19-4DC1-9953-66E143B09E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C6C11-ED36-4BD3-ADB5-95053E9C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806960-ADA7-4952-B00E-92119B1D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EB8E7F-A0F1-46BD-8EC6-904C067D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B6D4FE-B2DB-4E37-AF6D-F9C67DCE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F03709-D7A1-4151-858B-A6F8B9AF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EDB0E8-4E28-403B-A02A-263DF9EF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B6500C-E8DD-4EF6-8A5C-4BCEA483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1086AA-B6A0-47D3-A5C6-1358CFCD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74453A-1AF0-4E4D-BB9F-17705E20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212423-AABC-4F9F-B9B6-F74E8786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35AAA9-C10E-48B1-93BB-6F2DE863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542B-DCC9-4662-B5DA-0DFA2F88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C8373C-84C3-40F5-A9D2-6EFF9CDE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3B43FC-32D2-4319-BD07-EF03D409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65D8BE-8262-461E-9C6D-3721AB2C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BF5930-8A3C-4FEF-8B4A-630847CF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44B071-A544-46A1-93A0-B437521E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92EB70-B2D8-46DA-BFF6-8197422D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C2C7A5-AB3B-450A-AEA9-8358180D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0D1C40-5890-4CEF-8D01-3CF47B93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F69663-1FE8-43D3-9EC9-264B5748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1776CD-005B-403C-BD0D-D391CD23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AAF73-5322-4E81-94CE-CE156746F8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C92E5C-D6C9-412F-9A8C-A04EBC50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AED41-FB1C-4AB1-BC28-08981340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3C788-0B56-4A51-895A-155A1EEE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ED69B1-B906-4C23-8461-9F32A24C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D1EFD-80DC-4334-A408-8E2DCC0A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758673-2F8C-4179-B4CA-4A10C51C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BBA18-0C6F-4F83-945F-CD1068E6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EA167-F4D1-4E20-82B2-7204E28C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B4230-C6C6-4B95-95CB-EA130875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F4813-130D-429B-B5B5-007ADDD4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C2C955-F991-4D35-8B99-52FF5974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4E8F45-E75E-4D62-9060-28C3A7E7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E24AF9-9DEF-4721-A598-7FEB4398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87B17-0C3D-4B5F-A0F4-92584665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27041-044B-4CD0-8570-989693F1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DFBAC-9EED-4D41-A79F-349F22CE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7DE54-D95A-4259-A610-8EE65AF2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21D923-58CC-4761-89BB-01967243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F512B-AA34-40FB-B898-88809725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5B94C-814A-4F00-B2AE-B96F71EC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A7A00-8559-45A3-8D1A-B5750B80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F7F6FF-4429-4B4C-A8A5-9CC014B9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F2216-8BD5-4889-9F70-81AFB08B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8BB40-D175-4783-9B54-DD6FA564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4823F-0841-499B-8E3C-A6EBDEF2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CF2A94-20B5-43FC-B082-ED1402D7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A62164-9A2B-4A1F-B418-B4941AAF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C341A0-46B0-4EA0-A96F-BB96A343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FA4DDB-E9CB-4614-8543-F1821E5B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5D2254-C03C-4C84-BC4A-3F0B2304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E45444-12FF-4AFB-87C6-1ACCCFFA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360A61-C56B-49AB-8C58-7EF7E120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D0E65B-BCF2-47E5-B54D-E373B0D3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C013BC-D6D6-4D59-BD32-423BBF70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159AAD-4D4F-4837-A433-01D3F3C9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840FEC-34FC-4AC3-8ABF-5E823B1D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86FCCE-7E66-459E-A6AB-6DC9C93C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3ECBB-9E57-423F-81F2-D9C550D0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B8BC9-BA5E-4ED9-8342-A38A9502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AFAAF-6220-4834-90ED-18CA0672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04521A-C5AC-4E9C-ABB2-29B1F350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E304F9-C098-4C83-858F-6B2ACB67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8F0912-A7F0-4DEA-B4E9-3E05684D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0348A6-CD99-4CA7-B4D4-4DB06110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CC6BF-5984-4DBC-B88E-7A35CB30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BBA64-7382-43D2-A867-E99B331A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3DEFC3-9688-43C4-8C11-36AB4556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75659-C21B-430E-BD1C-7BD9824E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6B024-F2E1-468B-99E1-D306370E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7D0291-55E6-415C-BECD-A0575D98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0AC296-D695-4CF8-9ED3-31A1E2FE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F93693-C90B-4B1D-9C1D-F904F2CE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F90FAA-6EEB-4674-9BFD-9E585D15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A317CC-1014-40FA-BF50-415C2AC5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2D2311-DD3C-4DCF-B9DF-DA069026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835C7A-139D-4810-80C2-4424484A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CC2617-299B-4E4B-92F8-92A24043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098AD4-716A-4D06-BEB2-420A8FBC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337AF4-C3FD-4CD5-A85F-BF95FE7F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65C0F0-CB11-439B-B18A-16173C0E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32043D-0D5E-47A0-AEB9-3B327B61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DFF6B36-04CE-4E51-B7A9-F5F39901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DB033E-2F7C-4E3A-914E-2CEE75DE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719D567-E59C-47EE-A9EE-BED5E5E6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0CA66B-0C59-403B-9EB0-6E641DAB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E8F5F8-68A5-4552-AA32-07FC7F11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E47487C-0718-4674-B8FD-1B2C41E1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0C79B23-0DEB-4FBC-9D8D-68F2CCFB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318C7D8-0013-4C98-9FE3-CC8454D2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FC6B71A-0481-40B3-988B-BCC59D11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C4909F5-F059-49CE-A8AB-0E7A2E95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D55630-A025-4AFF-92BD-38FF5773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207366-FD5C-496E-9C2A-52A07503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BAA7A6-947F-4C02-A893-2E71A370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BC32DF6-8A1D-4369-B3BE-7BFCD0B0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EE1B8BA-E1EE-4644-8890-CA8DC705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EEB469A-C2CE-4451-90E9-8DB9F5FB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1607CC3-5501-449C-985E-CAF7FCF1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93ADA0-CC8E-4126-8414-3F8C41FF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F13829-26A4-49F3-A18E-A90045FA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66B3-21C7-40BF-BB46-8B56C2E1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C0DDB2D-341B-4A80-9A5E-463F43C5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6CDA3EF-EA33-48A5-A526-98DA932F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8ED7CC9-D0BE-40CF-9079-93CA880F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4493D77-668A-44EF-A2CC-DC01B645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DF86E7E-6472-4663-8D58-D84D0944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AF84377-9582-4980-A444-700212F3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8B90279-F13A-48DA-96BA-B1FD1E82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8EDD660-A775-40A1-9F7C-88794DE4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AE80702-FB3A-4D4A-9E08-9E2FC4A1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BE9E22B-3D16-4415-B6A7-4DABA5F6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7FB3C8B-37EE-4FDB-9284-D6B91285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BCD3003-C427-4F91-9F24-236C7A92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9B1A4DE-D1B4-44B9-867E-3BBBA8F2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9DCFBC-2A90-4F9E-8A94-C0F9132B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509E559-A03D-4609-9213-FE79CF2C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33ECF4-5FA8-4FA7-9B1B-44DAD400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205209-AF13-472F-B9D2-AFA0BDB8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2D450D4-7408-4B8A-BAE6-15ED21BD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88B99C8-0F39-4F1F-84CD-2E2B26BB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05B0789-D88F-4F0C-9A20-2A2FE7E3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2BF1295-9268-4F3F-8832-BA667CCC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E8E5F52-9B40-4518-9802-C6751CD1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0733A2D-F657-43F3-BE78-36187104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4757A04-1A3D-467B-891F-ECD86142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BF51F0F-3FC2-48AD-9F81-23334FB2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221ABC7-9969-46FB-80D6-890CEF77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6D15D-EEF2-4B05-8195-01ABFC98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A8AEA83-9D04-4F8A-A3C4-2890065A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D40F90E-18F0-42ED-A006-692BFCE3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9ECB4C5-63DD-4332-A7F5-489BB7F3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A80F1-8C44-4A52-81D6-2D7715AB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EE5B97A-40A3-4AAF-A05A-5A4B93B0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49ED379-4BF2-44F9-90AE-B53F4F02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9505A0C-6900-48F0-9A52-3F974A69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581CBFF-D0B9-4417-82FA-9CC32A02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9804CC3-AD80-4CCD-8129-006CD179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3CEE0-206F-4501-A215-AAB50E24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DC62CB5-46D2-438E-882B-254DE6F0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6B9BF76-669F-49FB-B30A-C91BA008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C6828B5-03D2-4677-B3B9-CC01810E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7FB4BBC-70B2-4ADB-8ECB-115FEA98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13505E4-38A3-4987-AC12-31A1E7E2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6A87EE3-5CCE-40EC-8981-B7C20519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251A69D-3462-47C0-AD84-A6F7579D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F8F3035-B6F4-4E4F-A116-B37E967B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F2096B6-ED09-449B-8D30-0AFBAF28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A2910CA-43D7-43F2-ABCD-D137BF9C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85A0C-4876-436E-A8DA-0956ED3F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72D6805-FA2C-47C6-9A2C-E6DF7189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8C51F3B-A5E3-4454-B46C-4C369F6A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5743987-6291-4845-9141-F3312A7B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EB89528-759B-4420-8B59-6286876E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F91795C-47BA-4C83-A1F5-E2926DBA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E4637A6-121A-413C-9F44-458F0627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411DF63-8359-4B82-80A7-1D9CB53F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9ADB77F-C854-4C5F-969F-37405056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B8BFE13-8310-420D-AFEB-AF0218B0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F5D7F55-8449-4322-8271-B7BAE621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281E2-D3B7-4031-A064-494CC671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1F6F0C4-017D-4FB1-90AF-5530985A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39D9235-0AAB-4C52-985A-FD66AA9B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C66411C-CA0D-42E9-8F26-A5F2844E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8F3DF51-DD06-4811-8065-9F64332D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7EEC76B-4822-4F93-BE91-5D4B1C6D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0BFAB5C-3F6D-4445-835B-B69B8A92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7A3F650-77AB-4DBF-B32F-F01EE960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17F2162-27BE-4A5D-9C85-401B952A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EB6A17A-E1E5-4291-8EF3-84C3B94D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060DD27-F523-4E31-AE70-607D5641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B437A-5C75-4F44-8E92-4353AA8C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F2B26-E32F-4F13-AF95-D3E42FB5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0147C04-2135-4B75-BF9B-55E3BD24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2035C10-23B0-4465-A8BB-8B49CD29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E64A90D-7DAA-4D10-B03E-3421F879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80FD633-0B1A-4DB2-A00A-7D9DB955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6786EFF-F7EA-4BF2-BE78-1409192D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4264567-8327-472C-A6BB-86CA2FD1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BBF01BE-4E9C-481A-8103-4027233E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37AD024-E6E3-4D2A-AF7C-832D3E5D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5B9796D-F1E7-4125-80D3-A21C6F33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8E2653F-87A3-4142-B1B6-7A7F7CC7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F989A-A234-4A14-900B-126972FB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1275E8A-BC79-4F57-9C8E-B0A61670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8181F5D-F39E-436B-8A64-A0BB99CA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E8116C9-5DE8-418D-894B-212FF00A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2AD9A36-6057-4EDB-A857-7D622D02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7F6089C-1832-4CFF-B2C0-125D66E5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9707B72-34C2-4A26-8EDD-27DC80B5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A6FCC0A-7EB5-407F-8B78-DC614B59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DF205AE-BE98-4DB8-8CDC-1467D487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406E18A-119A-48DE-808B-0BB73BDF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310F332-4F32-4FF3-B9AC-F253197B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49284-75B5-492B-9754-656FA6BC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1277653-FD94-4DB5-AABB-9940F3A6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A382615-A768-4E85-B63F-9080F554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7B366FA-512A-42E6-A877-E69E4A06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273CDA4-D45C-4C19-87C7-49C7BC3B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C05E697-8058-4341-8E72-B3D5C3F9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CC663D8-0308-4FDC-9A47-62A52E21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378BDBB-BC51-494A-AEA3-EA8DC04C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456C7BB-3BD5-446A-B37F-A7EC7933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2BA9DE3-C086-4C0F-9198-02E20336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833BF42-D935-47CB-A6A6-5B27DFAF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EB904-A904-48B9-96D5-09CF383D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2BBDD25-5801-4E72-AA9C-C137DD88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2C11471-0567-4016-9AE3-9A11374C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30A53EA-5556-46F7-98B6-7A76F6BA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48E8C7B-75F2-423D-8F3F-D8618E42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8E2E50E-558C-4E88-8D9D-EDB49F60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264C5C8-B205-4C33-BF7F-C095FCF6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8407BDD-FFE5-442D-8AA2-D534CDE0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81C4A1B-9E2F-41F2-8154-F10A0ED3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5954FE8-45B2-4B79-80C2-45314F06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4E96111-4A3E-482B-B41F-4223B51F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81823-81CC-4592-8555-40725BF7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812B526-34D7-4E17-BC22-3359D0C7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DFAAC48-4697-463B-A117-57DB45B8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CD6BD41-3A88-4328-959B-1B169D2D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6A3930A-CD07-4BD3-8F50-B59A5382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FBDEEAE-78E1-455D-BD44-6774BFBF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B7F51B2-73DF-42CB-B096-9F601185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0E134F6-8FD2-4406-BA13-33D1E81C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71B05F3-5611-4ED0-9AA3-EE26DB3B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16FCB7C-E773-4BAF-AE84-142C2F52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21F06E1-5258-4A16-BD9E-A27F947F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49D95-4FC1-46F6-8873-13A62784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65243BB-819B-476D-A8E9-43EF566C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59B19B7-D5FA-4840-B327-9D2567FB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D55A5A7-9374-40C2-8BEE-D8DE4247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370125F-ADDB-40C6-80F2-A73E8EAB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F939362-A421-4B4C-9BF7-EB079BB9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D1B973E-FF4A-4C4C-A05F-0DD73494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297334B-4F53-4612-BDB0-2724B9F8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F5FBC5D-7961-4FA6-B890-650D53D7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4D0A7D1-4D6D-4957-8C04-D887C1E9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C8150A3-0A0E-499F-B411-C3E037C6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A75E5-3257-495C-881D-B44E6A79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BB4E1EF-E6AF-4873-90E4-02D43E98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7ABCB6E-94D1-41CC-8260-AC04FB54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8858D87-0AF8-456F-A155-1EB4702D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FB62B4B-5DB5-4E39-81F9-FC63F97C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0FF7B75-AB61-4EDB-83FD-D3EAAB23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F1E6791-91BC-492C-A2DA-C26794B1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5084E72-5139-4803-8208-4F1796ED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9438B4D-94BA-4A0C-A571-003C50AD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419853D-0A5B-48D6-AB96-E261BA6C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58F75A5-C903-4D9B-9559-768DA856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4A142-4B6C-4111-BCF3-6259AF72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048265A-94DB-42C0-B202-E4608620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3AB06DF-81C6-45A1-8899-001B0766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63D661B-1608-4037-9A9D-4BD88AC2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E38DA68-61A1-43F9-9DC3-3F0105CE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CFA4FCD-5EFC-466C-862B-9FA5A25C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5C641F9-C5F6-45D0-8AA1-8FBF0659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B428545-2704-48B0-8918-AD28A320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790083A-965B-4D0C-B4BD-82D2EE5D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70C54B1-D851-483D-9B64-236D8251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A6932C3-36E2-4F18-BFC4-3F41C910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FBEFF-CA1F-4775-A26B-294D103C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9190F36-7C5D-4FEE-AFD1-C840BABC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BD57C66-B2F6-4BEB-8FD2-6F046CF4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3C4DD57-C50D-4925-9FA0-46B384AA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1D36287-959E-4E03-9C74-4354D821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AC36BC6-415C-4EA9-AAF3-15E0AE58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974B766-5632-427A-843D-DDAFF2AD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38C8029-F966-413A-9E17-7EC23C8F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5CFA387-BBA8-4AA6-80FC-E87E4FA0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3243054-950F-47E8-BF8F-9835740F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F9DC6FD-DFB6-49E5-B6E2-BB8061FF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90FD3-499B-4833-9F81-AE6E5991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98FB23B-A068-445D-8BF0-1318328F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24244C3-0ACA-4225-A0E5-41E32416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3D0853E-04A7-4977-A733-404073DA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CF83FF1-F677-4268-B1E7-890D55D4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412C82C-6883-46E1-A882-F863C549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2E18195-3DF9-4D2A-B626-9A4661D6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01029C7-336E-46A5-9571-70D8555C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A2DF-040E-4D6C-8C91-35239556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06300-E434-4744-9E27-0DFBC2E8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85041-5C0B-4C21-AF6D-53F42299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23E1D-1252-4733-AA1B-E5C65BCD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F4DC9-4266-43B6-89F4-8C745C37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520D4-36D1-4A18-A63D-06497187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768BC-DE05-405F-AF06-ECC0F8CB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46E42-C61E-4B55-B8F8-DA7D0352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7AA7D-A88B-4BA4-8B82-4D5D228D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C5C56-CB5A-40AC-8F71-5F54F7B4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13EF52-4D50-41E7-B530-4FD1FD91DE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C0FD3-C2C7-42DE-87E8-0F3625D9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53A35D-061B-478C-8FBC-1A7B0DC3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503024-A3FB-40F5-B9BF-8FFE1D25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BBEE2-01C0-4461-A2E9-8882FEF5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78C026-12AE-4A1B-8251-7D695B9E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FE88AC-377B-4E03-B264-FC2C59FC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4BD2D8-8A68-48DB-92D3-E89F66A1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086A0D-9208-4587-A4FA-E8F73E17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C1D274-082E-4F9B-A1DD-E6962BFA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DA0284-A1D0-4042-87CC-4FEEA7C2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BD3ED3-094C-4AFA-89BA-CCC677C7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C1A2-A3E2-4B97-AD3A-F9629E81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953B03-DC04-4E36-8355-BECDD256DD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AD1C42-7BC2-4977-B125-F21493B9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C527B1-3A2F-4995-8936-239DA3C0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19BACF-04D8-4C13-BCB1-020E87F3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815AD2-394F-4552-9EF6-A8B4DFD5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2B37DD-DA8F-4B45-8C52-EFD1A5E2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068CA8-13A4-4D4B-A5DD-6B83B459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AC6E80-41B1-42CC-9AE0-805DD39A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CEB700-9A5D-49FD-B934-45315575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B168B0-614C-4A5B-A6CD-8F66B6A1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5F78E-C505-45DC-80D5-C8EF62FB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34DEF1-E15D-4665-8B51-B346A8E5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96C953-6F8A-4FA0-AE11-EFFADC22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9FB8DF-3EF8-4BD4-9FC3-FADB0FE5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390B-BFC8-4AA5-B4E1-846636D5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E08792-96D2-48D6-92E3-E38BC86D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6ACD00-7E6E-4AEC-AAB5-B69BFE59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36FC0F-B7B4-45CA-B6B5-BD405643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5C0DA0-D85C-4EFD-B404-EC3A2E59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B433D4-406C-4631-B119-32B09C65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89C5D-F94A-4A9B-99AB-11D69325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4B9933-F72C-4D47-9E50-6CBE8194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5E20D6-DF2C-4C47-9999-7ED7B878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59E05B-3B2D-41DB-9C1E-0F33A0CE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C78BE0-049F-4D84-8055-EB482ED2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5151E5-F343-477F-A2AF-B62852DE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E27294-B232-4CAD-A598-E1A3502C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4ECCD4-D44A-407B-A0C4-0404BB80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DED909-EFBA-4EEE-B42D-DE479429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2DD23D-3A48-4F47-BDE9-375BF558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DC99B7-CB46-4A88-9F30-66761204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29.xml"/><Relationship Id="rId9" Type="http://schemas.openxmlformats.org/officeDocument/2006/relationships/slideLayout" Target="../slideLayouts/slideLayout230.xml"/><Relationship Id="rId10" Type="http://schemas.openxmlformats.org/officeDocument/2006/relationships/slideLayout" Target="../slideLayouts/slideLayout231.xml"/><Relationship Id="rId11" Type="http://schemas.openxmlformats.org/officeDocument/2006/relationships/slideLayout" Target="../slideLayouts/slideLayout232.xml"/><Relationship Id="rId12" Type="http://schemas.openxmlformats.org/officeDocument/2006/relationships/slideLayout" Target="../slideLayouts/slideLayout233.xml"/><Relationship Id="rId13" Type="http://schemas.openxmlformats.org/officeDocument/2006/relationships/slideLayout" Target="../slideLayouts/slideLayout234.xml"/><Relationship Id="rId14" Type="http://schemas.openxmlformats.org/officeDocument/2006/relationships/slideLayout" Target="../slideLayouts/slideLayout235.xml"/><Relationship Id="rId15" Type="http://schemas.openxmlformats.org/officeDocument/2006/relationships/slideLayout" Target="../slideLayouts/slideLayout236.xml"/><Relationship Id="rId16" Type="http://schemas.openxmlformats.org/officeDocument/2006/relationships/slideLayout" Target="../slideLayouts/slideLayout237.xml"/><Relationship Id="rId17" Type="http://schemas.openxmlformats.org/officeDocument/2006/relationships/slideLayout" Target="../slideLayouts/slideLayout238.xml"/><Relationship Id="rId18" Type="http://schemas.openxmlformats.org/officeDocument/2006/relationships/slideLayout" Target="../slideLayouts/slideLayout239.xml"/><Relationship Id="rId19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53.xml"/><Relationship Id="rId9" Type="http://schemas.openxmlformats.org/officeDocument/2006/relationships/slideLayout" Target="../slideLayouts/slideLayout254.xml"/><Relationship Id="rId10" Type="http://schemas.openxmlformats.org/officeDocument/2006/relationships/slideLayout" Target="../slideLayouts/slideLayout255.xml"/><Relationship Id="rId11" Type="http://schemas.openxmlformats.org/officeDocument/2006/relationships/slideLayout" Target="../slideLayouts/slideLayout256.xml"/><Relationship Id="rId12" Type="http://schemas.openxmlformats.org/officeDocument/2006/relationships/slideLayout" Target="../slideLayouts/slideLayout257.xml"/><Relationship Id="rId13" Type="http://schemas.openxmlformats.org/officeDocument/2006/relationships/slideLayout" Target="../slideLayouts/slideLayout258.xml"/><Relationship Id="rId14" Type="http://schemas.openxmlformats.org/officeDocument/2006/relationships/slideLayout" Target="../slideLayouts/slideLayout259.xml"/><Relationship Id="rId15" Type="http://schemas.openxmlformats.org/officeDocument/2006/relationships/slideLayout" Target="../slideLayouts/slideLayout260.xml"/><Relationship Id="rId16" Type="http://schemas.openxmlformats.org/officeDocument/2006/relationships/slideLayout" Target="../slideLayouts/slideLayout261.xml"/><Relationship Id="rId17" Type="http://schemas.openxmlformats.org/officeDocument/2006/relationships/slideLayout" Target="../slideLayouts/slideLayout262.xml"/><Relationship Id="rId18" Type="http://schemas.openxmlformats.org/officeDocument/2006/relationships/slideLayout" Target="../slideLayouts/slideLayout263.xml"/><Relationship Id="rId19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55C3-F496-4669-9338-91428CB9A528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FD11-B44B-40D3-8843-416B0064FB6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B86D-ED97-4A69-B1F3-5A157DD2C882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5A83-54CF-4FAB-B99B-83ED83A42A8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D885-276D-4D19-90CC-394180F0B23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5950-32FC-42EA-BCDA-53A7D70B9CC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6489-C424-4C17-A2D0-E10525FA1772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2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75AB-49C9-4307-8C5B-C11B2EA4C26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D1EB-513C-4FB1-B01B-A77DB61D909D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BF3B-70DC-4A64-8497-A1051B08711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41B8-FB96-4FC4-B004-689E551B8B47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A8F6-08CF-4F1F-BF8A-B0DD1731DDC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3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A264-0729-43B2-B1BF-896FB371F288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3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3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9E5F-9037-4D47-93A4-F8B8D486DBB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3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6231-6916-49CA-94AA-E47B7D11201E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3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F3A3-C21C-4F57-AAF0-F8ABA39766C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18C4-99CE-445E-9038-13250D8F26A1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4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4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C7C1-46E1-4F71-B19A-0B8248D91B6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9B91-2715-49C3-8AD7-FFF702EC334E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4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4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3CA8-1A1F-45A7-AA67-6045889B598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11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13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5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3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4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5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6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7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8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9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0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1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5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6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7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8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9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0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1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2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3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4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5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6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7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8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9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0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1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2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3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4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90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1" name="Picture 148" descr="logo small"/>
            <p:cNvPicPr/>
            <p:nvPr/>
          </p:nvPicPr>
          <p:blipFill>
            <a:blip r:embed="rId8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3" name="Picture 23" descr="dd"/>
            <p:cNvPicPr/>
            <p:nvPr/>
          </p:nvPicPr>
          <p:blipFill>
            <a:blip r:embed="rId9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4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5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6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7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8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9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0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1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7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8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9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0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1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2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3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4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5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6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7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8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9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9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8"/>
    <p:sldLayoutId id="2147483897" r:id="rId9"/>
    <p:sldLayoutId id="2147483898" r:id="rId10"/>
    <p:sldLayoutId id="2147483899" r:id="rId11"/>
    <p:sldLayoutId id="2147483900" r:id="rId12"/>
    <p:sldLayoutId id="2147483901" r:id="rId13"/>
    <p:sldLayoutId id="2147483902" r:id="rId14"/>
    <p:sldLayoutId id="2147483903" r:id="rId15"/>
    <p:sldLayoutId id="2147483904" r:id="rId16"/>
    <p:sldLayoutId id="2147483905" r:id="rId17"/>
    <p:sldLayoutId id="2147483906" r:id="rId18"/>
    <p:sldLayoutId id="2147483907" r:id="rId19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7B58-FD67-4553-9BE8-21FEF6FE96A4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7D17-0853-46FB-A722-3835B630B33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120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122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4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5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6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7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8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9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0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1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2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3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4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5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6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7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8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9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0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1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2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3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4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5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6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7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8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9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0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1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2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3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4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5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6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7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8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9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0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8"/>
    <p:sldLayoutId id="2147483923" r:id="rId9"/>
    <p:sldLayoutId id="2147483924" r:id="rId10"/>
    <p:sldLayoutId id="2147483925" r:id="rId11"/>
    <p:sldLayoutId id="2147483926" r:id="rId12"/>
    <p:sldLayoutId id="2147483927" r:id="rId13"/>
    <p:sldLayoutId id="2147483928" r:id="rId14"/>
    <p:sldLayoutId id="2147483929" r:id="rId15"/>
    <p:sldLayoutId id="2147483930" r:id="rId16"/>
    <p:sldLayoutId id="2147483931" r:id="rId17"/>
    <p:sldLayoutId id="2147483932" r:id="rId18"/>
    <p:sldLayoutId id="2147483933" r:id="rId19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5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5D2B-D738-47FF-B9D8-0E8EDBD9E9F5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5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5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D7FD-4467-4EBC-AD98-5D29842D7B7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5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89F8-47AF-4265-84AF-496519F8A2F6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5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5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2400-9CD6-4254-93B2-A8061E19872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dt" idx="5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F342-9E8A-4848-AAFF-AFC419774753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ftr" idx="5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sldNum" idx="5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B986-CA1C-44C5-A6C0-B2565348839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dt" idx="5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E41A-9135-4611-B1E7-CFACF266F42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ftr" idx="6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sldNum" idx="6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B358-1833-4428-BCE4-20C43A0D28E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dt" idx="6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3316-C7E9-4D98-BEB3-C07D28B6F93B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ftr" idx="6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sldNum" idx="6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0E96-29E7-4358-B5E0-4F16CDFE80B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dt" idx="6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2BEF-962A-46FF-A013-2F5F170F7816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 type="ftr" idx="6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 type="sldNum" idx="6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21F8-AC3D-460E-A457-8E23F1E2168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dt" idx="6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BCFB-10C6-4583-9F33-6C96F03DB4D0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 type="ftr" idx="6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 type="sldNum" idx="7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D07E-4038-49A9-BB6C-986C0745B8E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8BC7-DBB5-4007-9261-27B3C80E4B07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5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4F2E-6B28-4176-8885-E3AE5A10B41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 type="dt" idx="7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488D-E2F5-4592-8C9F-30E1212B2A26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 type="ftr" idx="7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 type="sldNum" idx="7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9FA3-437D-4286-A741-06BA4C50D4B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7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0785-9D8B-4484-AD90-49320FCE993D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7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7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D589-8E6D-41AB-B100-524B33DF22A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dt" idx="7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8F85-EBEB-48F4-9E1F-222A34E96798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 type="ftr" idx="7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 type="sldNum" idx="7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3705-1C23-4EE1-BEB7-CB998D66E1F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 type="dt" idx="8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900D-95D6-4A5E-886D-D6D83368E52D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 type="ftr" idx="8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 type="sldNum" idx="8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2F0C-98B3-4658-9D40-6B356E7274A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59F1-CDE7-4043-AD0B-861576EEA5F5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8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B592-C9A4-4112-A06A-8803BE2AC10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6F4C-540D-4AD4-922E-263136714081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B7D7-C296-4C45-B133-A636BF3F8E6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5636-3BA6-4090-AB08-0002DA6038F2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0DAB-4C07-4BE1-A422-D0F02560B36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3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3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1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B8FD-DBA9-40DA-B5A9-73307E9E0E82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1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0A0A-EDCF-4389-9D34-14C25E0B613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C743-71D0-498B-83AE-FB836622D0FE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090F-B647-4B76-A9D0-F114B2F6365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003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694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695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697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1698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9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03" name="Oval 102"/>
          <p:cNvGrpSpPr/>
          <p:nvPr/>
        </p:nvGrpSpPr>
        <p:grpSpPr>
          <a:xfrm>
            <a:off x="438120" y="1359000"/>
            <a:ext cx="2158920" cy="2176200"/>
            <a:chOff x="438120" y="1359000"/>
            <a:chExt cx="2158920" cy="2176200"/>
          </a:xfrm>
        </p:grpSpPr>
        <p:pic>
          <p:nvPicPr>
            <p:cNvPr id="1704" name="Oval 102" descr=""/>
            <p:cNvPicPr/>
            <p:nvPr/>
          </p:nvPicPr>
          <p:blipFill>
            <a:blip r:embed="rId2"/>
            <a:stretch/>
          </p:blipFill>
          <p:spPr>
            <a:xfrm>
              <a:off x="438120" y="1359000"/>
              <a:ext cx="2158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5" name=""/>
            <p:cNvSpPr/>
            <p:nvPr/>
          </p:nvSpPr>
          <p:spPr>
            <a:xfrm>
              <a:off x="752400" y="1679400"/>
              <a:ext cx="1530360" cy="15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06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1707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8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9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10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1711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2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3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4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5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6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7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8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19" name="Oval 118"/>
          <p:cNvGrpSpPr/>
          <p:nvPr/>
        </p:nvGrpSpPr>
        <p:grpSpPr>
          <a:xfrm>
            <a:off x="974880" y="706320"/>
            <a:ext cx="1109520" cy="1109880"/>
            <a:chOff x="974880" y="706320"/>
            <a:chExt cx="1109520" cy="1109880"/>
          </a:xfrm>
        </p:grpSpPr>
        <p:pic>
          <p:nvPicPr>
            <p:cNvPr id="1720" name="Oval 118" descr=""/>
            <p:cNvPicPr/>
            <p:nvPr/>
          </p:nvPicPr>
          <p:blipFill>
            <a:blip r:embed="rId3"/>
            <a:stretch/>
          </p:blipFill>
          <p:spPr>
            <a:xfrm>
              <a:off x="974880" y="706320"/>
              <a:ext cx="1109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1" name=""/>
            <p:cNvSpPr/>
            <p:nvPr/>
          </p:nvSpPr>
          <p:spPr>
            <a:xfrm>
              <a:off x="1138320" y="870120"/>
              <a:ext cx="784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22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172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26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1727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8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9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0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1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2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33" name="Oval 128"/>
          <p:cNvGrpSpPr/>
          <p:nvPr/>
        </p:nvGrpSpPr>
        <p:grpSpPr>
          <a:xfrm>
            <a:off x="480960" y="3224160"/>
            <a:ext cx="1805040" cy="1817640"/>
            <a:chOff x="480960" y="3224160"/>
            <a:chExt cx="1805040" cy="1817640"/>
          </a:xfrm>
        </p:grpSpPr>
        <p:pic>
          <p:nvPicPr>
            <p:cNvPr id="1734" name="Oval 128" descr=""/>
            <p:cNvPicPr/>
            <p:nvPr/>
          </p:nvPicPr>
          <p:blipFill>
            <a:blip r:embed="rId4"/>
            <a:stretch/>
          </p:blipFill>
          <p:spPr>
            <a:xfrm>
              <a:off x="480960" y="3224160"/>
              <a:ext cx="18050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5" name=""/>
            <p:cNvSpPr/>
            <p:nvPr/>
          </p:nvSpPr>
          <p:spPr>
            <a:xfrm>
              <a:off x="746280" y="3492360"/>
              <a:ext cx="127476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36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1737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8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9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40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1741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2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3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4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5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6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47" name="Oval 138"/>
          <p:cNvGrpSpPr/>
          <p:nvPr/>
        </p:nvGrpSpPr>
        <p:grpSpPr>
          <a:xfrm>
            <a:off x="1011240" y="4791240"/>
            <a:ext cx="1512720" cy="1517400"/>
            <a:chOff x="1011240" y="4791240"/>
            <a:chExt cx="1512720" cy="1517400"/>
          </a:xfrm>
        </p:grpSpPr>
        <p:pic>
          <p:nvPicPr>
            <p:cNvPr id="1748" name="Oval 138" descr=""/>
            <p:cNvPicPr/>
            <p:nvPr/>
          </p:nvPicPr>
          <p:blipFill>
            <a:blip r:embed="rId5"/>
            <a:stretch/>
          </p:blipFill>
          <p:spPr>
            <a:xfrm>
              <a:off x="1011240" y="4791240"/>
              <a:ext cx="15127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9" name=""/>
            <p:cNvSpPr/>
            <p:nvPr/>
          </p:nvSpPr>
          <p:spPr>
            <a:xfrm>
              <a:off x="1235160" y="5013360"/>
              <a:ext cx="10652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50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175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5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5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754" name="Date Placeholder 1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7CCC-05AF-4F65-95BC-2DE296362122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5" name="Slide Number Placeholder 4"/>
          <p:cNvSpPr/>
          <p:nvPr/>
        </p:nvSpPr>
        <p:spPr>
          <a:xfrm>
            <a:off x="7196040" y="6553080"/>
            <a:ext cx="16509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DDDE-9DF5-48AD-8146-65BD9D6FABD1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6" name="Rectangle 59"/>
          <p:cNvSpPr/>
          <p:nvPr/>
        </p:nvSpPr>
        <p:spPr>
          <a:xfrm>
            <a:off x="3032280" y="1084320"/>
            <a:ext cx="6173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25b"/>
                </a:solidFill>
                <a:latin typeface="Arial"/>
              </a:rPr>
              <a:t>CLARIFICATION  MEETING: QM58 CATEGORY 4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TENDER NO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ce planning and interior design consultants at MWP, EAL And ERIC Building in Rosherville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DATE: 2022/09/16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725b"/>
                </a:solidFill>
                <a:latin typeface="Arial"/>
              </a:rPr>
              <a:t>Bongi Tshabalala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107640" y="1125000"/>
            <a:ext cx="870732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py  of the Category 4 Quality requirement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ategory4 Quality Requirement - Explanatio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mpletion of : 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A1 Method Statement and E:Form A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Templates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: A1 Method Statement and E:Form A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FC8C-E0FC-4DAC-994D-E21A62F0F4B0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B348-8B0B-4C13-AB6D-111E8B0137FB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  of  Quality Requiremen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2" name="Slide Number Placeholder 3"/>
          <p:cNvSpPr/>
          <p:nvPr/>
        </p:nvSpPr>
        <p:spPr>
          <a:xfrm>
            <a:off x="3132000" y="6453360"/>
            <a:ext cx="2880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8C69-AF9E-4260-A50A-4B5AB928A9F1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63" name="Picture 5" descr=""/>
          <p:cNvPicPr/>
          <p:nvPr/>
        </p:nvPicPr>
        <p:blipFill>
          <a:blip r:embed="rId1"/>
          <a:stretch/>
        </p:blipFill>
        <p:spPr>
          <a:xfrm>
            <a:off x="217440" y="1341360"/>
            <a:ext cx="8242200" cy="512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34ED-34E3-41F1-A606-BD88084858DB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5" name="Slide Number Placeholder 5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2B0F-60AC-44B5-9CEF-E4DBC108B5D7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70149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Out  standing Quality Requirement  - Category 4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7" name="Rectangle 2"/>
          <p:cNvSpPr/>
          <p:nvPr/>
        </p:nvSpPr>
        <p:spPr>
          <a:xfrm>
            <a:off x="30240" y="1011240"/>
            <a:ext cx="878508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SECTION A: 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.1  Quality Method statement based on scope. -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NB  Use   Eskom Quality Method  Template as a guide.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	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(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1" lang="en-GB" sz="1400" spc="-1" strike="noStrike">
                <a:solidFill>
                  <a:srgbClr val="003896"/>
                </a:solidFill>
                <a:latin typeface="Arial"/>
                <a:ea typeface="Times New Roman"/>
              </a:rPr>
              <a:t>240-126469599: </a:t>
            </a:r>
            <a:r>
              <a:rPr b="1" lang="en-GB" sz="1400" spc="-1" strike="noStrike">
                <a:solidFill>
                  <a:srgbClr val="003896"/>
                </a:solidFill>
                <a:latin typeface="Arial"/>
                <a:ea typeface="Calibri"/>
              </a:rPr>
              <a:t>Method Statement Template)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.2 Quality Polic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Approved by top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management.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</a:rPr>
              <a:t>Commitment to: meet customer requirements / expectations; continual improvement; satisfying all applicable requirements including statutory requirements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.3 Quality Objectives (KPAs/KPIs)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Approved by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top management.(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SMART)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	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SECTION B: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B.1 Documented information for defined roles, responsibilities and authorities (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Organization chart 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/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Organogram and  Responsibility Matrix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(must include but not limited to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quality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management function/role) (Clause 5.3 of ISO 9001:2015)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	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B.2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Documented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information for Control of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Externally Provided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Processes, Products and Services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2" marL="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Describ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how you  ensure that work completed b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external parties ( Sub-Contractor, Suppliers, Consultants, etc)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omply with the requirements)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2" marL="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Must include criteria for evaluation, selection, monitoring of performance, and re-evaluation of external providers (Clause 8.4 of ISO 9001:2015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2" marL="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SECTION C: </a:t>
            </a:r>
            <a:r>
              <a:rPr b="1" lang="en-ZA" sz="1400" spc="-1" strike="noStrike">
                <a:solidFill>
                  <a:srgbClr val="ff0000"/>
                </a:solidFill>
                <a:latin typeface="Arial"/>
                <a:ea typeface="Calibri"/>
              </a:rPr>
              <a:t> To Complete and Sign </a:t>
            </a: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Form A 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 A1: Method Statemen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69" name=""/>
          <p:cNvGraphicFramePr/>
          <p:nvPr/>
        </p:nvGraphicFramePr>
        <p:xfrm>
          <a:off x="179280" y="1052640"/>
          <a:ext cx="8425080" cy="5499000"/>
        </p:xfrm>
        <a:graphic>
          <a:graphicData uri="http://schemas.openxmlformats.org/drawingml/2006/table">
            <a:tbl>
              <a:tblPr/>
              <a:tblGrid>
                <a:gridCol w="3240360"/>
                <a:gridCol w="1728720"/>
                <a:gridCol w="936360"/>
                <a:gridCol w="638280"/>
                <a:gridCol w="297000"/>
                <a:gridCol w="720720"/>
                <a:gridCol w="863640"/>
              </a:tblGrid>
              <a:tr h="526680">
                <a:tc rowSpan="4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statement  Title </a:t>
                      </a: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( Title as per tender/RFQ tit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ll Name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( Supplier Representative Details 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iginated b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ed b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if applicab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d by: 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if applicab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ignation ( of the compiler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ct No ( of the compiler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ent </a:t>
                      </a: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(Division/Operating/ Business Unit as per tender RFQ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nder /RFQ Number/ Contract Number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t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Detailed Description (type in the information required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ence Document/ Procedure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/        Dept./  Discipline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020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ope of work as described in the contract </a:t>
                      </a: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document/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der/ tender 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Outline the scope of work as detailed in the Works Information of the NEC document/ RFQ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 Narrow"/>
                          <a:ea typeface="Times New Roman"/>
                        </a:rPr>
                        <a:t>Note the relevant document ref number ( if availab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 Narrow"/>
                          <a:ea typeface="Times New Roman"/>
                        </a:rPr>
                        <a:t>Relevant discipline (if any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ctives/ Outputs / contract objectives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List 2-3 objectives  (SMART) in relation to the SOW outputs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ustomer Focu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The primary focus of quality management is to meet customer requirements and to strive to exceed customer expectations. How are customer needs identified, and effectively communicated to affected personnel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How are customer needs identified, and effectively communicated to affected personnel in the organisation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mpetency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empowering and engaging people throughout the organization to enhance its capability to create value. What Human Resources, training and authority are required for delivering this SOW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Provide details of skills/ competencies and training required to deliver the tender/order Scope of work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36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3896"/>
                          </a:solidFill>
                          <a:uFillTx/>
                          <a:latin typeface="Arial"/>
                          <a:ea typeface="Times New Roman"/>
                        </a:rPr>
                        <a:t>Infrastructure:</a:t>
                      </a: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 PPE required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PPE that is required in executing  the scope of work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ACAD-186C-4902-8DE6-B2ED1FABFA01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1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3D85-A4E3-43D9-9BF9-9153D560AC60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2" name="TextBox 2"/>
          <p:cNvSpPr/>
          <p:nvPr/>
        </p:nvSpPr>
        <p:spPr>
          <a:xfrm rot="19546800">
            <a:off x="2463120" y="3479760"/>
            <a:ext cx="70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 be Completed</a:t>
            </a: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F331-994B-4433-9BEE-48F77A7F8B31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4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4E54-6DA5-459D-BB2B-FE07C62FF73D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75" name="Picture 7" descr=""/>
          <p:cNvPicPr/>
          <p:nvPr/>
        </p:nvPicPr>
        <p:blipFill>
          <a:blip r:embed="rId1"/>
          <a:srcRect l="36946" t="32564" r="35349" b="14710"/>
          <a:stretch/>
        </p:blipFill>
        <p:spPr>
          <a:xfrm>
            <a:off x="1652760" y="1125360"/>
            <a:ext cx="5079960" cy="5661360"/>
          </a:xfrm>
          <a:prstGeom prst="rect">
            <a:avLst/>
          </a:prstGeom>
          <a:ln w="0">
            <a:noFill/>
          </a:ln>
        </p:spPr>
      </p:pic>
      <p:sp>
        <p:nvSpPr>
          <p:cNvPr id="1776" name="TextBox 1"/>
          <p:cNvSpPr/>
          <p:nvPr/>
        </p:nvSpPr>
        <p:spPr>
          <a:xfrm>
            <a:off x="2735280" y="107964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lete  her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7" name="TextBox 1"/>
          <p:cNvSpPr/>
          <p:nvPr/>
        </p:nvSpPr>
        <p:spPr>
          <a:xfrm>
            <a:off x="2987640" y="633096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lete and sign her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–E Form A completion and signing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6B69-FF08-41BD-9EB8-3544BDAC81F9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F470-5A3E-413A-B1E1-291C55614501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81" name=""/>
          <p:cNvGraphicFramePr/>
          <p:nvPr/>
        </p:nvGraphicFramePr>
        <p:xfrm>
          <a:off x="469800" y="1268280"/>
          <a:ext cx="7458120" cy="3816360"/>
        </p:xfrm>
        <a:graphic>
          <a:graphicData uri="http://schemas.openxmlformats.org/drawingml/2006/table">
            <a:tbl>
              <a:tblPr/>
              <a:tblGrid>
                <a:gridCol w="5821560"/>
                <a:gridCol w="16365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lates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tachments 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885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Quality Requirements / Evaluation Criteria – category 4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Tender Portal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A.1: Method Statement 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E: Form A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Tender Portal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</a:tbl>
          </a:graphicData>
        </a:graphic>
      </p:graphicFrame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. Templates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83" name="Object 3"/>
          <p:cNvGraphicFramePr/>
          <p:nvPr/>
        </p:nvGraphicFramePr>
        <p:xfrm>
          <a:off x="6681960" y="3357720"/>
          <a:ext cx="914400" cy="62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960" y="3357720"/>
                    <a:ext cx="91440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6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9958-C1BC-41F8-89E9-B3A0AF528E41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7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725F-915F-46C4-8EAE-2E977F1BCEF4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88" name="Picture 5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316872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engelight</dc:creator>
  <dc:description/>
  <dc:language>en-US</dc:language>
  <cp:lastModifiedBy>Bongi Tshabalala</cp:lastModifiedBy>
  <cp:lastPrinted>2019-02-20T13:05:04Z</cp:lastPrinted>
  <dcterms:modified xsi:type="dcterms:W3CDTF">2022-09-19T10:58:40Z</dcterms:modified>
  <cp:revision>944</cp:revision>
  <dc:subject/>
  <dc:title>Slide 1</dc:title>
</cp:coreProperties>
</file>